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4D0-1927-4729-B211-520CA7E2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03C-B614-469F-B2D7-BDB5D36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09CED-A715-4416-A1B3-73B5DB66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3689-7A2A-4874-9754-88F95836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813C6-5E46-4B74-90A4-5AF742C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612D9-48F3-4703-B868-E02A4A6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8511-B3B7-409B-8885-3CD9523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A040-9C5F-4F40-95CF-6F21C340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3F2C2-C19D-4053-983F-DAD004F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E948-97B7-4B9F-901F-67CDBBD9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D734A-0B36-456F-839A-709C80CD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96886-B253-41C2-A2FF-F38FEFA9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7B8-590C-4C4D-A27D-9CF61B09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C8059-F669-4D52-A89D-4152DA64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8094E-27BB-47E9-BF3E-BBCA5FF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B1DD4-AF38-4EF5-8D36-3CCA1FAA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C12B4-E704-445D-8273-18A6F34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0F0A-A3F9-4D49-95B3-3CBCD33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E1D0-9378-42EA-BDAB-64BAF81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31121-FD84-4C4D-BD95-AFE261B7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0832B-7394-4DAB-92EE-F20F746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8C66-3D63-49F6-890C-465EE59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A65ED-5F50-4FBA-BAF0-998D3C3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BF2-C06A-4245-94AC-99E09D5C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9EC32-A4FE-4CCF-8E8C-336A8C7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798C-1207-480C-B4E7-76135D1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96E8-D2A2-4405-AED7-2E8B051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6E374-5A04-4220-A279-9E2CE2F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966C6-AEDD-4EEA-A876-EE86332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F1CE8-C39D-4D27-BAAC-FDFF859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618C0-CDE7-404E-BEAD-BD2D34E1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D086-D737-4CA5-B803-B31B144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2ACBB-FC2C-4DFF-A7D3-835359E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6267-D75D-429A-8688-F65C1A1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DEE8-C9AC-4893-8141-405F82D2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01054-B354-4E24-A705-603FF47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47D46-3130-4F1C-8321-94F4B7A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2E53A-D1DF-49D6-BAA4-B3EF3ADD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A81A2-F4EA-479D-9A0D-F9D1D2E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FF1A2-9313-4E0B-BB03-400ECBC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6DA3D-37CE-40D6-8FFE-BA710A17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E3620-1B3F-4292-A9BD-F15A329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86FE9-72BD-4DAE-BF33-A15FD0D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AF327-EE84-4F1C-B040-7BF9A76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DEADF-1BE7-4B89-AEFA-8EEE123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8EAC-93E2-4CB3-8127-E405429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D41B3-1436-4328-B191-011783B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B1FF5-0EF1-453C-B5FA-3983439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B9CBD-04BC-4E62-987E-2E19D98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54191-8C23-4DD5-8B23-EA292AC4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AB2B-9AB8-4E02-8F44-55069F2C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D8409-52D6-4828-B855-AF9C856B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9DD0D-C381-4790-9C86-73600B9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5BB99-2413-4B0A-9A25-7DD3B85C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F2807-235A-41E3-8FBA-EDDB075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9B9F6-4D74-41FF-8967-5BE66DF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FFD2-4BDB-4B65-BE44-3E48B88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2C26C-FC9B-4B2B-9B12-2420B1B6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254E8-3630-4678-8A69-E05D37E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9C78B-ED9F-4733-AE6C-533C0E9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D3397-7B0D-4A57-943A-752D850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05502-17BD-40C4-A543-883DC33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EB87D-2142-401D-9695-118C419A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A8166-AD5D-410D-9EE7-41EF1681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53D3A-D1B2-49CF-9959-ACFBA8A7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36940-B7DB-4AF5-9975-CA8C489A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D407E-E51A-4CB6-919E-D2F3094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C11-B8E7-473E-988E-4C7CDD7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9B4D4-52AC-445C-8866-C61B961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6B971-DD1E-49AD-97C7-CD2D093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A48B6-7D68-40A6-B83D-F43A910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3DDC5-567B-470D-951F-023E2F6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816A6-9F33-4789-B579-EE3FE95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C4CA3-07D5-4C9F-8A6F-57ED692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AF456-DAD8-42B0-B7A6-34AA9871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B7371-7C72-4E57-8136-6A0A8127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205A6-F115-4D85-AD1C-FE0E26A5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63387-CC6E-4497-A577-6BF34A61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FBC-6366-4ABF-93B0-54B1855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3E353-FE41-4BD1-B0AC-45B76BB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B6ABA-FEC5-45FB-B842-54B3EC0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583FA-A9AD-43C5-8281-923034D1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5DCBB-0E29-47E4-8E4F-0B0F5C4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76F21-BADB-473A-ADD7-8470109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D3F62-C123-4B7C-89FC-1EE524B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A9AA9-7062-4910-8A75-85DABC7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1A194-EEA5-4E8C-A7E3-C5F8B15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9F743-976E-4BE7-A626-5FCBE0CC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0E64A-5169-44C6-9D30-0F25A1BE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EA0-BFAE-42BE-9D39-B633D19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673A0-3985-40E2-A135-D74346AB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873EB-FC77-4053-AF9C-332ED136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9E312-B1A9-4D42-B1DB-13C8DFE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4598B-1863-4101-B18E-1A8DA55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22E34-2B92-4081-BB99-12CB0BE6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5BCF8-0B24-413B-95F2-F5FF90A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EA514-9689-438F-9C18-A4449CC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FA27F-ED9E-40BE-A21A-B2FD8DB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9EEDA-674E-4AC4-ABF4-98890AC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2C7F1-DE2D-466B-9259-9FA7334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070-5B5C-46F6-A82F-D03FB36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224A8-075D-47B6-BFD0-4F83BFC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F778D-3BC7-4512-90C5-3B91E60A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2B362-48F4-4E7F-A618-5A27E5E3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B8E4C-028D-4372-BE6D-97FF528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A26CC-FB11-4F69-8785-DE6A2FA4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9D721-0332-47FD-9AA5-B2B19ECE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8B8E9-BB24-4E8D-AC6F-46209F8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D89FE-6C4A-4289-A9FD-B39C96D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57968-462F-4925-B852-A371F02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673DD-8B01-4378-8975-8D278A43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AF7-AC4C-44FC-B90C-8D54CFAC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F77-2EFF-48D7-A883-8DA6BAA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4AEAA-9A93-44A1-9E5B-AD2BBB9D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F32DD-163E-4800-ADCC-A74D381C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A18C3-6D59-45A6-98F6-06715C4C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A5246-EE2A-46A8-8AD2-3E2D4FC0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C24EE-59D6-4116-91AA-A542E66B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F13E4-7013-4C4F-A18B-45AB2E2D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70B5C-6E62-4F37-8774-63992E6C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83BF5-D6C0-4FA7-AB53-ED2BEEC7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C5A09-7B54-424C-A1EF-F5D8A00F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F70C9-E616-4B5A-9CBD-69632596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2BE-90F3-4C9B-84E0-B1ADE5D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1D2C1-1546-4231-B380-DF22DDF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0BB92-D201-4EDA-91CF-6A2F27B3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3AF27-ACC4-4F86-90E3-84B5C47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CD397-01A4-4619-AAFF-E951F5A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15680-A922-498F-B0E1-FE20C029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19B94-6A63-4A9C-912A-4FBBE50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DAA0F-53DB-4110-B75A-85B2BF20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D893C-57A1-48E6-86C7-458F009E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2AF66-24E3-41CF-B486-5FE22EA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428D8-4E2E-445A-8D85-F2DA24C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85C8-7340-4B16-A874-F3B8B3B8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2A14D-6519-400E-A561-6BBEA6F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413EA-364C-4821-A346-4EE71A76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C4642-CD2E-4DEF-AD42-C658DCB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D11FA-CEB9-4DE2-AE5E-7794057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84C1A-DAB6-427C-846F-ADD774C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3044A-CEAD-4E80-99B9-E72863E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AC722-9E46-4FA0-A676-4D25194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BB639-ADF1-4FD6-89A4-37B4A4FE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CA352-F068-4876-A514-86345B6D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AFFF4-72CF-479D-A1DB-D9148E9B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A022-CFEE-4DB4-A2F7-25FA2785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22707-D237-42D3-B7D9-202A6428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218E9-E3AC-436A-914D-A4981B3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271D8-213F-4EB2-AEE9-28FABFAF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C8618-16C0-4A15-A32B-08336B7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977B2-B310-44F2-B485-F21735D3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2CC31-9F92-4145-ACE6-60F27092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F304A-874D-42A4-809E-9D72BC5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68611-5FFE-4B05-8E57-5A6EF2F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422B4-E08A-4611-9A8D-7187427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1D525-808F-46ED-A955-E669329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992-9304-4F2A-BD85-9864821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574DE-4C41-4026-AB19-DFD55EFE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02461-5669-448C-B63B-D064B355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78907-0BD5-4DCD-839D-F3E7007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9B3D4-3C74-4C12-BE25-F1F6FDFC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08D4B-8B28-4F73-8FBC-C9675B6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329B1-621D-4A26-A1AE-1F7A080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A3358-D9A3-4573-90A3-577C185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2041E-0E21-4463-8D73-37FA89C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16CDF-314A-4474-88A4-792B2D6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F085F-6AF4-4810-8140-F1D98AC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8FC2-4E52-4F98-A17C-880A5233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A6A07-B349-4B52-B100-2FE42032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3AA11-5F65-496E-B28D-89A85B83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84DBB-33CD-4DC6-9AE4-48B7D89F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B931-50D9-4F92-B5B3-BAD18B8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D774-D695-4140-A482-F7714111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EBDA-51DA-49AF-83E7-9F04A808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A06E-824C-46F3-BBD5-E851B96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0F5-6B0A-4051-90F8-36331A9A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1846-679E-4AC7-B60B-B4596859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E58B-E718-460E-87B9-A1485AA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3865-ADC4-4F8E-9D98-520999D1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6A7C-AAEE-4E07-9E49-8BD79B5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6B40-ACA3-4EFE-9ABD-7A8240B6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6A14-6F8C-4AF8-B46A-E4CFD210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9A0F-E565-4B03-A14D-1F78FA76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C77F-C816-4CD0-BA5C-A490A6E8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D190-0906-48D4-AA16-24F726E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5830-3540-49B9-9DA1-1AD2923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C76-00A2-47FF-B390-BDF04B0F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3746-69BE-4957-91D2-A29985B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301C-8BF8-4A51-9296-6B39F54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1B78-3A5A-4998-B957-6B7CE89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4E47-7AB6-42FF-AA89-A158A3D4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D740-3EAA-4999-B737-DFC0022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3B17-4D56-406C-959E-EB36B04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FC862-81BE-41DA-9CF7-C5844E2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CF97-D4A4-4873-81DE-D8B73EAF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B8CC-7238-4CFE-B956-A2A2D456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0F65-57F1-4894-8001-2DBE7C5E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D11-93A8-44EF-9981-B079694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BC07-C12D-4488-BEBF-56492AFE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82C1-5E4E-43F0-B608-789841C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A310-AEC0-4BE4-9CF1-4A6BE954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3E71-7927-4AFB-9501-2423B4B8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1E45D-DACE-45D8-B89C-9CB5D62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F8F2-1485-431D-B5D6-B1519AC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816F-835F-4A86-9A4D-5FDCEEA7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40F9-CD5F-4176-90FC-600636E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A83A-B992-4281-AD31-A14299B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06FB-EBEB-42E8-99BC-DD96210E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90E-6F63-4D30-89E9-3DFEDE3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09E4-A19D-488B-9FFC-70771B63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3BCE-B1F9-4FF9-895A-DE8B77F5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AAB89-DAD6-46BA-9915-01AADCD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9BED1-EA88-46E7-887D-A2AA119A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A19A-FC20-4CB7-9098-3913A2C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C752-9925-49F5-8272-13C25FB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DFE4-28DF-4E6F-9B10-AFA96DAF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E526F-4D4F-4426-82CC-877FF98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7D5C-3B5A-40EB-B1A5-01ADD82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8888-711E-46B7-B978-9C2D141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B62-366A-4280-AE2E-2D52652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84C5F-1143-4A4F-975D-5A95465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F8AD-87F8-42E5-9E1B-615A6CA7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D226-5E3C-44C4-A011-1CABE1B0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6160-1689-4CC6-96F3-1BD37455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CE44-9DC4-4C10-A766-44F69F2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ADFC4-3B97-4AAE-9D47-37327A4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AC17-828F-4E0E-BC35-AE5E388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73B21-56BD-475E-8E18-66C3245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9E83-D0D1-44C3-AC0F-D197CF3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B826-3D0C-4209-97DB-A10D9616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B5C-CAC7-4BC5-B45C-1527FA4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26CB5-3FCB-472A-BA8E-6537E54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1A14-F743-4E10-AA2F-61E35B0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6BF6-96C0-4776-874E-3B45E25B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701B-4C73-494C-97EC-5D433F93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BF62-4C45-4900-9BC5-AE85691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F7DC-C364-4256-A07E-7FE41560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585D-9BB8-4BBC-B275-31BB0B58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BF55-2CBA-4DC4-BBA7-908308BC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2C5F-78DF-42C7-BA0C-CDB36783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4224F-FE39-4A62-B3E1-47B80174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5F7-074F-4771-A5B1-3963433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0689F-2AA6-489E-B20A-6DD4A36F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B70F-B91B-48AD-A5A0-64D37FC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92A27-E95D-45E7-8B58-C889A15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1E56-7EA6-4BB9-B066-836D70C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F04D8-6865-4C2F-AB33-1710348A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7A7B-5107-40A2-A311-B909A028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B3B4-D0B5-4488-AB8C-BD974066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E4D41-E5F7-4BDC-A091-7C1914DA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A1EC6-6FD4-4D59-A6CD-AF0C005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B087-138D-4DA8-8779-C45576F7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443-0DCA-4801-9CE9-3150E0D79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F295-295C-4A6A-9864-DA3C84916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1E94-B072-4E68-976E-AC2943660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7612-6F28-4F19-B67B-FE96336117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C8B1-7E65-4CB6-8DC9-D5AE6E524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3D1-5349-4E25-ABA5-651030809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599-8B46-4481-AB1E-9E9F14DE8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8650-7561-4F47-B46F-BDB24EBB5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FEB-6827-46FE-9FA1-3DAF604C4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75A8-C43F-4C2F-A081-FAF30C8F6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C38-2DE5-40D9-B965-E0E096E01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A9CB-893B-4D22-8EBB-2D681E013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5C9-0057-4F66-AE8F-9D1384A83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4D0-AF8B-4BAE-808E-72812F3FB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C62-35AB-4625-A4E8-814CFD017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AA2C-71FD-4D17-996F-09F14C2A8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410-8089-42A6-B292-5689CC78F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6AC-A63F-4A4E-AEDB-AA40937B2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F436-7770-4D9B-9EB1-7B8D2027A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8884-E090-47A9-A2CF-BD74219D9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0A1-9FA5-47C2-BF98-AF07A1A8B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1E9-93E5-442E-91F0-561F3AF57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B8E3-8BDA-4D15-8F77-A98459C1F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35E-6EA4-414A-AC19-B3CC42993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F547-F3DA-4B09-B616-23325E2F9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940-B0A1-4799-AB55-16F1A8D1B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9AB8-9AC5-436C-BF8C-E5C3D26F0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D20D-8AAE-4D47-8A91-C925A443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C87E-3106-46D5-93E9-F802DBD96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7129-96C2-4CB6-B586-FA4D031A8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4E47-8803-4DAA-8832-10276C28A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26B-C86E-402C-A11D-2A0C307C61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ECD-F978-40ED-9E22-DC5A1BD69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10A9-24B4-4244-8AE2-E14A83CA0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793-1F47-4F0D-99FB-3926B93E2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41D-D311-4827-857F-E3A385D46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412A-4F85-43FA-94E0-04B35EEDB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AC7-51D1-42B5-8364-A585EB180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4B0-DE02-404B-B5D2-FE7D29FBD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CE4-E4E7-4A22-ACE8-363B8EA7F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6320" y="2571840"/>
            <a:ext cx="89913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814400" y="1967040"/>
            <a:ext cx="5515200" cy="29239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1" descr=""/>
          <p:cNvPicPr/>
          <p:nvPr/>
        </p:nvPicPr>
        <p:blipFill>
          <a:blip r:embed="rId2"/>
          <a:stretch/>
        </p:blipFill>
        <p:spPr>
          <a:xfrm>
            <a:off x="2147760" y="233532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2" descr=""/>
          <p:cNvPicPr/>
          <p:nvPr/>
        </p:nvPicPr>
        <p:blipFill>
          <a:blip r:embed="rId3"/>
          <a:stretch/>
        </p:blipFill>
        <p:spPr>
          <a:xfrm>
            <a:off x="2147760" y="3849840"/>
            <a:ext cx="486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38160" y="1676520"/>
            <a:ext cx="9067680" cy="350496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" descr=""/>
          <p:cNvPicPr/>
          <p:nvPr/>
        </p:nvPicPr>
        <p:blipFill>
          <a:blip r:embed="rId2"/>
          <a:stretch/>
        </p:blipFill>
        <p:spPr>
          <a:xfrm>
            <a:off x="758880" y="202896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2" descr=""/>
          <p:cNvPicPr/>
          <p:nvPr/>
        </p:nvPicPr>
        <p:blipFill>
          <a:blip r:embed="rId3"/>
          <a:stretch/>
        </p:blipFill>
        <p:spPr>
          <a:xfrm>
            <a:off x="758880" y="250344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" descr=""/>
          <p:cNvPicPr/>
          <p:nvPr/>
        </p:nvPicPr>
        <p:blipFill>
          <a:blip r:embed="rId4"/>
          <a:stretch/>
        </p:blipFill>
        <p:spPr>
          <a:xfrm>
            <a:off x="758880" y="283860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4" descr=""/>
          <p:cNvPicPr/>
          <p:nvPr/>
        </p:nvPicPr>
        <p:blipFill>
          <a:blip r:embed="rId5"/>
          <a:stretch/>
        </p:blipFill>
        <p:spPr>
          <a:xfrm>
            <a:off x="758880" y="3171960"/>
            <a:ext cx="461880" cy="3585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5" descr=""/>
          <p:cNvPicPr/>
          <p:nvPr/>
        </p:nvPicPr>
        <p:blipFill>
          <a:blip r:embed="rId6"/>
          <a:stretch/>
        </p:blipFill>
        <p:spPr>
          <a:xfrm>
            <a:off x="758880" y="3670200"/>
            <a:ext cx="46188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图片 1" descr=""/>
          <p:cNvPicPr/>
          <p:nvPr/>
        </p:nvPicPr>
        <p:blipFill>
          <a:blip r:embed="rId1"/>
          <a:stretch/>
        </p:blipFill>
        <p:spPr>
          <a:xfrm>
            <a:off x="609480" y="938160"/>
            <a:ext cx="7925040" cy="498168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1" descr=""/>
          <p:cNvPicPr/>
          <p:nvPr/>
        </p:nvPicPr>
        <p:blipFill>
          <a:blip r:embed="rId2"/>
          <a:stretch/>
        </p:blipFill>
        <p:spPr>
          <a:xfrm>
            <a:off x="1201680" y="141120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3"/>
          <a:stretch/>
        </p:blipFill>
        <p:spPr>
          <a:xfrm>
            <a:off x="1201680" y="231948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4"/>
          <a:stretch/>
        </p:blipFill>
        <p:spPr>
          <a:xfrm>
            <a:off x="1201680" y="326232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4" descr=""/>
          <p:cNvPicPr/>
          <p:nvPr/>
        </p:nvPicPr>
        <p:blipFill>
          <a:blip r:embed="rId5"/>
          <a:stretch/>
        </p:blipFill>
        <p:spPr>
          <a:xfrm>
            <a:off x="1201680" y="413532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5" descr=""/>
          <p:cNvPicPr/>
          <p:nvPr/>
        </p:nvPicPr>
        <p:blipFill>
          <a:blip r:embed="rId6"/>
          <a:stretch/>
        </p:blipFill>
        <p:spPr>
          <a:xfrm>
            <a:off x="1295280" y="5137200"/>
            <a:ext cx="4622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85680" y="2052720"/>
            <a:ext cx="8972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76200" y="1576440"/>
            <a:ext cx="8389800" cy="370512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1" descr=""/>
          <p:cNvPicPr/>
          <p:nvPr/>
        </p:nvPicPr>
        <p:blipFill>
          <a:blip r:embed="rId2"/>
          <a:stretch/>
        </p:blipFill>
        <p:spPr>
          <a:xfrm>
            <a:off x="2587680" y="28954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2" descr=""/>
          <p:cNvPicPr/>
          <p:nvPr/>
        </p:nvPicPr>
        <p:blipFill>
          <a:blip r:embed="rId3"/>
          <a:stretch/>
        </p:blipFill>
        <p:spPr>
          <a:xfrm>
            <a:off x="3672000" y="28954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3" descr=""/>
          <p:cNvPicPr/>
          <p:nvPr/>
        </p:nvPicPr>
        <p:blipFill>
          <a:blip r:embed="rId4"/>
          <a:stretch/>
        </p:blipFill>
        <p:spPr>
          <a:xfrm>
            <a:off x="4694400" y="338760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18" name="图片 4" descr=""/>
          <p:cNvPicPr/>
          <p:nvPr/>
        </p:nvPicPr>
        <p:blipFill>
          <a:blip r:embed="rId5"/>
          <a:stretch/>
        </p:blipFill>
        <p:spPr>
          <a:xfrm>
            <a:off x="6967440" y="338760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119" name="图片 5" descr=""/>
          <p:cNvPicPr/>
          <p:nvPr/>
        </p:nvPicPr>
        <p:blipFill>
          <a:blip r:embed="rId6"/>
          <a:stretch/>
        </p:blipFill>
        <p:spPr>
          <a:xfrm>
            <a:off x="4694400" y="388152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6" descr=""/>
          <p:cNvPicPr/>
          <p:nvPr/>
        </p:nvPicPr>
        <p:blipFill>
          <a:blip r:embed="rId7"/>
          <a:stretch/>
        </p:blipFill>
        <p:spPr>
          <a:xfrm>
            <a:off x="5788080" y="388152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7" descr=""/>
          <p:cNvPicPr/>
          <p:nvPr/>
        </p:nvPicPr>
        <p:blipFill>
          <a:blip r:embed="rId8"/>
          <a:stretch/>
        </p:blipFill>
        <p:spPr>
          <a:xfrm>
            <a:off x="3672000" y="43750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8" descr=""/>
          <p:cNvPicPr/>
          <p:nvPr/>
        </p:nvPicPr>
        <p:blipFill>
          <a:blip r:embed="rId9"/>
          <a:stretch/>
        </p:blipFill>
        <p:spPr>
          <a:xfrm>
            <a:off x="6883560" y="43750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9" descr=""/>
          <p:cNvPicPr/>
          <p:nvPr/>
        </p:nvPicPr>
        <p:blipFill>
          <a:blip r:embed="rId10"/>
          <a:stretch/>
        </p:blipFill>
        <p:spPr>
          <a:xfrm>
            <a:off x="2587680" y="48322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10" descr=""/>
          <p:cNvPicPr/>
          <p:nvPr/>
        </p:nvPicPr>
        <p:blipFill>
          <a:blip r:embed="rId11"/>
          <a:stretch/>
        </p:blipFill>
        <p:spPr>
          <a:xfrm>
            <a:off x="7931160" y="4832280"/>
            <a:ext cx="460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079800" y="1160640"/>
            <a:ext cx="2495520" cy="3618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" descr=""/>
          <p:cNvPicPr/>
          <p:nvPr/>
        </p:nvPicPr>
        <p:blipFill>
          <a:blip r:embed="rId4"/>
          <a:stretch/>
        </p:blipFill>
        <p:spPr>
          <a:xfrm>
            <a:off x="595440" y="2166840"/>
            <a:ext cx="7951680" cy="25243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1274760" y="267336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1274760" y="3025800"/>
            <a:ext cx="485640" cy="35064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1274760" y="3535200"/>
            <a:ext cx="485640" cy="351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1274760" y="388620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" descr=""/>
          <p:cNvPicPr/>
          <p:nvPr/>
        </p:nvPicPr>
        <p:blipFill>
          <a:blip r:embed="rId9"/>
          <a:stretch/>
        </p:blipFill>
        <p:spPr>
          <a:xfrm>
            <a:off x="1274760" y="4340160"/>
            <a:ext cx="4856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880920" y="806400"/>
            <a:ext cx="7382160" cy="59040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" descr=""/>
          <p:cNvPicPr/>
          <p:nvPr/>
        </p:nvPicPr>
        <p:blipFill>
          <a:blip r:embed="rId2"/>
          <a:stretch/>
        </p:blipFill>
        <p:spPr>
          <a:xfrm>
            <a:off x="1495440" y="125244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3"/>
          <a:stretch/>
        </p:blipFill>
        <p:spPr>
          <a:xfrm>
            <a:off x="1495440" y="2301840"/>
            <a:ext cx="485640" cy="3510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4"/>
          <a:stretch/>
        </p:blipFill>
        <p:spPr>
          <a:xfrm>
            <a:off x="1495440" y="339552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1495440" y="4454640"/>
            <a:ext cx="485640" cy="43344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1495440" y="5724360"/>
            <a:ext cx="485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071720" y="2895480"/>
            <a:ext cx="7000560" cy="106704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1" descr=""/>
          <p:cNvPicPr/>
          <p:nvPr/>
        </p:nvPicPr>
        <p:blipFill>
          <a:blip r:embed="rId2"/>
          <a:stretch/>
        </p:blipFill>
        <p:spPr>
          <a:xfrm>
            <a:off x="1251000" y="2895480"/>
            <a:ext cx="485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299880" y="1990800"/>
            <a:ext cx="8542440" cy="28764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1" descr=""/>
          <p:cNvPicPr/>
          <p:nvPr/>
        </p:nvPicPr>
        <p:blipFill>
          <a:blip r:embed="rId2"/>
          <a:stretch/>
        </p:blipFill>
        <p:spPr>
          <a:xfrm>
            <a:off x="879480" y="241632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3"/>
          <a:stretch/>
        </p:blipFill>
        <p:spPr>
          <a:xfrm>
            <a:off x="952560" y="276876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3" descr=""/>
          <p:cNvPicPr/>
          <p:nvPr/>
        </p:nvPicPr>
        <p:blipFill>
          <a:blip r:embed="rId4"/>
          <a:stretch/>
        </p:blipFill>
        <p:spPr>
          <a:xfrm>
            <a:off x="952560" y="361944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4" descr=""/>
          <p:cNvPicPr/>
          <p:nvPr/>
        </p:nvPicPr>
        <p:blipFill>
          <a:blip r:embed="rId5"/>
          <a:stretch/>
        </p:blipFill>
        <p:spPr>
          <a:xfrm>
            <a:off x="952560" y="410040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5" descr=""/>
          <p:cNvPicPr/>
          <p:nvPr/>
        </p:nvPicPr>
        <p:blipFill>
          <a:blip r:embed="rId6"/>
          <a:stretch/>
        </p:blipFill>
        <p:spPr>
          <a:xfrm>
            <a:off x="879480" y="4514760"/>
            <a:ext cx="485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57320" y="1704960"/>
            <a:ext cx="8827920" cy="344808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1" descr=""/>
          <p:cNvPicPr/>
          <p:nvPr/>
        </p:nvPicPr>
        <p:blipFill>
          <a:blip r:embed="rId2"/>
          <a:stretch/>
        </p:blipFill>
        <p:spPr>
          <a:xfrm>
            <a:off x="3946680" y="339084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" descr=""/>
          <p:cNvPicPr/>
          <p:nvPr/>
        </p:nvPicPr>
        <p:blipFill>
          <a:blip r:embed="rId3"/>
          <a:stretch/>
        </p:blipFill>
        <p:spPr>
          <a:xfrm>
            <a:off x="6715080" y="384804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" descr=""/>
          <p:cNvPicPr/>
          <p:nvPr/>
        </p:nvPicPr>
        <p:blipFill>
          <a:blip r:embed="rId4"/>
          <a:stretch/>
        </p:blipFill>
        <p:spPr>
          <a:xfrm>
            <a:off x="2647800" y="4281480"/>
            <a:ext cx="486000" cy="3510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4" descr=""/>
          <p:cNvPicPr/>
          <p:nvPr/>
        </p:nvPicPr>
        <p:blipFill>
          <a:blip r:embed="rId5"/>
          <a:stretch/>
        </p:blipFill>
        <p:spPr>
          <a:xfrm>
            <a:off x="5270400" y="4714920"/>
            <a:ext cx="486000" cy="35064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5" descr=""/>
          <p:cNvPicPr/>
          <p:nvPr/>
        </p:nvPicPr>
        <p:blipFill>
          <a:blip r:embed="rId6"/>
          <a:stretch/>
        </p:blipFill>
        <p:spPr>
          <a:xfrm>
            <a:off x="7953480" y="4714920"/>
            <a:ext cx="48564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66" name="组合 9221"/>
          <p:cNvGrpSpPr/>
          <p:nvPr/>
        </p:nvGrpSpPr>
        <p:grpSpPr>
          <a:xfrm>
            <a:off x="250920" y="2028960"/>
            <a:ext cx="8582040" cy="2800080"/>
            <a:chOff x="250920" y="2028960"/>
            <a:chExt cx="8582040" cy="2800080"/>
          </a:xfrm>
        </p:grpSpPr>
        <p:pic>
          <p:nvPicPr>
            <p:cNvPr id="1067" name="图片 1" descr=""/>
            <p:cNvPicPr/>
            <p:nvPr/>
          </p:nvPicPr>
          <p:blipFill>
            <a:blip r:embed="rId1"/>
            <a:stretch/>
          </p:blipFill>
          <p:spPr>
            <a:xfrm>
              <a:off x="309600" y="2028960"/>
              <a:ext cx="8523360" cy="28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图片 9220" descr=""/>
            <p:cNvPicPr/>
            <p:nvPr/>
          </p:nvPicPr>
          <p:blipFill>
            <a:blip r:embed="rId2"/>
            <a:stretch/>
          </p:blipFill>
          <p:spPr>
            <a:xfrm>
              <a:off x="250920" y="2565360"/>
              <a:ext cx="8497800" cy="22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直接连接符 9222"/>
          <p:cNvSpPr/>
          <p:nvPr/>
        </p:nvSpPr>
        <p:spPr>
          <a:xfrm>
            <a:off x="971640" y="3645000"/>
            <a:ext cx="345600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9223"/>
          <p:cNvSpPr/>
          <p:nvPr/>
        </p:nvSpPr>
        <p:spPr>
          <a:xfrm flipH="1">
            <a:off x="1187280" y="3659040"/>
            <a:ext cx="1656000" cy="633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9224"/>
          <p:cNvSpPr/>
          <p:nvPr/>
        </p:nvSpPr>
        <p:spPr>
          <a:xfrm flipH="1">
            <a:off x="2842920" y="3616200"/>
            <a:ext cx="1655640" cy="633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9225"/>
          <p:cNvSpPr/>
          <p:nvPr/>
        </p:nvSpPr>
        <p:spPr>
          <a:xfrm>
            <a:off x="6588000" y="3659040"/>
            <a:ext cx="1656000" cy="633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9226"/>
          <p:cNvSpPr/>
          <p:nvPr/>
        </p:nvSpPr>
        <p:spPr>
          <a:xfrm flipH="1">
            <a:off x="6732720" y="3645000"/>
            <a:ext cx="1596960" cy="647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571680" y="2276640"/>
            <a:ext cx="8001000" cy="230472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1" descr=""/>
          <p:cNvPicPr/>
          <p:nvPr/>
        </p:nvPicPr>
        <p:blipFill>
          <a:blip r:embed="rId2"/>
          <a:stretch/>
        </p:blipFill>
        <p:spPr>
          <a:xfrm>
            <a:off x="1181160" y="2720880"/>
            <a:ext cx="485640" cy="3510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2" descr=""/>
          <p:cNvPicPr/>
          <p:nvPr/>
        </p:nvPicPr>
        <p:blipFill>
          <a:blip r:embed="rId3"/>
          <a:stretch/>
        </p:blipFill>
        <p:spPr>
          <a:xfrm>
            <a:off x="1181160" y="307188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3" descr=""/>
          <p:cNvPicPr/>
          <p:nvPr/>
        </p:nvPicPr>
        <p:blipFill>
          <a:blip r:embed="rId4"/>
          <a:stretch/>
        </p:blipFill>
        <p:spPr>
          <a:xfrm>
            <a:off x="1181160" y="3424320"/>
            <a:ext cx="485640" cy="35064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4" descr=""/>
          <p:cNvPicPr/>
          <p:nvPr/>
        </p:nvPicPr>
        <p:blipFill>
          <a:blip r:embed="rId5"/>
          <a:stretch/>
        </p:blipFill>
        <p:spPr>
          <a:xfrm>
            <a:off x="1181160" y="377496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" descr=""/>
          <p:cNvPicPr/>
          <p:nvPr/>
        </p:nvPicPr>
        <p:blipFill>
          <a:blip r:embed="rId6"/>
          <a:stretch/>
        </p:blipFill>
        <p:spPr>
          <a:xfrm>
            <a:off x="1181160" y="4303800"/>
            <a:ext cx="485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1395360" y="1109520"/>
            <a:ext cx="6353280" cy="463896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2" descr=""/>
          <p:cNvPicPr/>
          <p:nvPr/>
        </p:nvPicPr>
        <p:blipFill>
          <a:blip r:embed="rId2"/>
          <a:stretch/>
        </p:blipFill>
        <p:spPr>
          <a:xfrm>
            <a:off x="2019240" y="180036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3" descr=""/>
          <p:cNvPicPr/>
          <p:nvPr/>
        </p:nvPicPr>
        <p:blipFill>
          <a:blip r:embed="rId3"/>
          <a:stretch/>
        </p:blipFill>
        <p:spPr>
          <a:xfrm>
            <a:off x="2019240" y="3252960"/>
            <a:ext cx="486000" cy="3520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4" descr=""/>
          <p:cNvPicPr/>
          <p:nvPr/>
        </p:nvPicPr>
        <p:blipFill>
          <a:blip r:embed="rId4"/>
          <a:stretch/>
        </p:blipFill>
        <p:spPr>
          <a:xfrm>
            <a:off x="2019240" y="4653000"/>
            <a:ext cx="486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9:5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